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29C-F2BE-49DF-B890-995ACBEB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1C8-CACD-470D-A42E-0AE8A0BD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C78-5D3A-47CC-AF5B-6E8AA733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209-2840-4909-82DE-08F0E68D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CC5-19D2-4F5F-9319-F78F882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448-77B5-469A-9160-9F476B8B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D09-8391-4931-8168-B58AD5BF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AD1-6830-4A75-B825-21544CDD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A05-1110-48FD-803F-2C8752B8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F86-4C75-444F-979B-A4AA3EF5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9DF-B2A2-41B5-8264-F607D2EC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B9B-CD73-470E-B80B-23C0BAF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2639-86AB-43F6-A27D-7ADA39A67A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EED  VALLEY  TOURISTS         VALLEY  TOURISTS                       VALLEY  TOURISTS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657600" y="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.  16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weed Valley Tourists 2.JPG"/>
          <p:cNvPicPr/>
          <p:nvPr/>
        </p:nvPicPr>
        <p:blipFill>
          <a:blip r:embed="rId1"/>
          <a:stretch/>
        </p:blipFill>
        <p:spPr>
          <a:xfrm>
            <a:off x="1639800" y="115920"/>
            <a:ext cx="1408320" cy="13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weed Valley Tourists 1.jpg"/>
          <p:cNvPicPr/>
          <p:nvPr/>
        </p:nvPicPr>
        <p:blipFill>
          <a:blip r:embed="rId2"/>
          <a:stretch/>
        </p:blipFill>
        <p:spPr>
          <a:xfrm>
            <a:off x="344520" y="446040"/>
            <a:ext cx="107964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weed Valley Tourists 3.JPG"/>
          <p:cNvPicPr/>
          <p:nvPr/>
        </p:nvPicPr>
        <p:blipFill>
          <a:blip r:embed="rId3"/>
          <a:stretch/>
        </p:blipFill>
        <p:spPr>
          <a:xfrm>
            <a:off x="3440160" y="476280"/>
            <a:ext cx="1042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9:29:27Z</dcterms:created>
  <dc:creator>JY</dc:creator>
  <dc:description/>
  <dc:language>en-US</dc:language>
  <cp:lastModifiedBy>John</cp:lastModifiedBy>
  <dcterms:modified xsi:type="dcterms:W3CDTF">2011-12-20T21:56:55Z</dcterms:modified>
  <cp:revision>9</cp:revision>
  <dc:subject/>
  <dc:title>Slide 1</dc:title>
</cp:coreProperties>
</file>